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91D-10AC-4C9A-987E-DBE2D1DD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BB9-C87B-422E-B585-D122FDC2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0D2-CA1B-41EA-A3D9-33390ACE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954-A9B5-460C-B56B-98D85295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0C5-5724-4F06-88B0-F5C4F98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673-5E5B-48DB-A8D7-B00F01B9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829-6864-4161-8D7C-EC6D9D48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499-EBC5-4418-B04D-73418958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3C3-E5EB-4798-9574-AC09D15C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8B3-8DFC-4442-ABE0-D2F1317F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D33-90B3-4704-BA86-17176F77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2F8-05A8-40B2-8334-AA054BCB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4968-AC17-4A45-9268-4F2862FA54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-10-09-04-00-4048972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N00500_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老人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排队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t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9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ody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victory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reat2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andshake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romise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myth</cp:lastModifiedBy>
  <dcterms:modified xsi:type="dcterms:W3CDTF">2004-06-06T14:55:48Z</dcterms:modified>
  <cp:revision>15</cp:revision>
  <dc:subject/>
  <dc:title>Welcome to my class!</dc:title>
</cp:coreProperties>
</file>